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FB5-AE4D-4AD4-ADFC-0EA21103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1E0-DB5A-4ADC-A8D2-61AF84B5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2E5-5E7B-4638-8B06-7A99D8E7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61A-4ECE-4EE4-9EBF-967418A4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78D-6931-4CE8-96C8-216C3150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CAD-7462-4172-BFBD-436A00CB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B03-AD93-46C0-B110-E2FCEA74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1E7-1DBA-4C9C-8A0C-356E504C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9F6-8DE6-4A0D-9D1C-5B83F874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953-0509-414F-A6ED-324C2F73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6A0-5BD5-4ADF-B99A-B208897D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3CD-E59C-4AB7-99D8-1D03DF1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2089-C8D6-4E4C-95F9-4DB86788F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52600" y="2052720"/>
            <a:ext cx="44388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01:13:41Z</dcterms:created>
  <dc:creator>WinuE</dc:creator>
  <dc:description/>
  <dc:language>en-US</dc:language>
  <cp:lastModifiedBy>WinuE</cp:lastModifiedBy>
  <dcterms:modified xsi:type="dcterms:W3CDTF">2010-06-29T01:13:56Z</dcterms:modified>
  <cp:revision>1</cp:revision>
  <dc:subject/>
  <dc:title>Diapositiva 1</dc:title>
</cp:coreProperties>
</file>